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852C-708A-444B-BACC-16963C3D7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536F-3691-4C03-9995-BD40CFC86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3B7A-B18F-4C59-8535-F1498795A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7625-D48A-4E74-8B97-5057F6DE9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7E7F-4B41-48F4-9550-854796525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073E-C976-4D5B-9B1F-4985C6789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F08B-6F82-4DC1-9146-51DD38F4D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11D8-FF66-41F7-9E10-6F6902924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9549-0C6F-4938-BBA2-5AF0FE961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443C-E526-43C8-8A3B-D69EBB8AE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B533-28B6-49DF-B22E-5E5D9AB7F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477E-5BE9-4DC7-978F-F66D9A86F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6A65D-2C5C-4445-87DE-27A7D94FB7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152280" y="228600"/>
            <a:ext cx="86868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LES MUSS AUF DEUTSCH SEIN!!!!!  Hier ist die Information, die du brauchst: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formation: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ussehen (Augenfarbe, Haarefarbe, Grösse, Geschlecht) (mindenstens 4 Sätz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o er/sie wohnt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oher er/sie kommt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arakteristik Adjekti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Job:  *Superheld(in) oder Bösewicht  UND Karri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as er/sie kann machen: (Das kann echt (real) oder unecht sei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as kann er/sie machen, was ungewöhnlich (unusual) ist: (Das kann echt (real) oder unecht sei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as Alter Eg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3T20:01:32Z</dcterms:created>
  <dc:creator>tmsadmin</dc:creator>
  <dc:description/>
  <dc:language>en-US</dc:language>
  <cp:lastModifiedBy>tmsadmin</cp:lastModifiedBy>
  <dcterms:modified xsi:type="dcterms:W3CDTF">2013-09-13T20:04:15Z</dcterms:modified>
  <cp:revision>1</cp:revision>
  <dc:subject/>
  <dc:title>Slide 1</dc:title>
</cp:coreProperties>
</file>